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Calisto MT"/>
              </a:rPr>
              <a:t>Click to move the slide</a:t>
            </a: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dt" idx="19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ftr" idx="20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 type="sldNum" idx="21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fr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9CA76122-9003-418F-AF10-0324B6A0E847}" type="slidenum">
              <a:rPr b="0" lang="fr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Espace réservé du numéro de diapositiv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BBFB0C7B-B0D1-4A0E-B1C5-0E965C0CD92E}" type="slidenum">
              <a:rPr b="0" lang="fr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Espace réservé du numéro de diapositiv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C523B8AF-361E-4619-AFE4-46CF3480F42E}" type="slidenum">
              <a:rPr b="0" lang="fr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Espace réservé du numéro de diapositiv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5386321D-2F69-4DBD-B2A1-8693DDC178B3}" type="slidenum">
              <a:rPr b="0" lang="fr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Espace réservé du numéro de diapositiv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B089C32E-4E45-4517-8908-D5C7D8C4E5E7}" type="slidenum">
              <a:rPr b="0" lang="fr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Espace réservé du numéro de diapositiv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832E35DB-416B-4332-B503-1E93D3255C51}" type="slidenum">
              <a:rPr b="0" lang="fr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Espace réservé du numéro de diapositiv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BE604757-BE4E-4275-A08D-DB9D9F742E6C}" type="slidenum">
              <a:rPr b="0" lang="fr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Espace réservé du numéro de diapositiv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116E6A74-085A-41B1-8049-D8432AB3EDD8}" type="slidenum">
              <a:rPr b="0" lang="fr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Espace réservé du numéro de diapositiv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9EA13B8A-EBBE-49D5-BA5D-7CB2742187D9}" type="slidenum">
              <a:rPr b="0" lang="fr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ce réservé du numéro de diapositiv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251E4EC1-D65E-4E5C-85BF-3662F9D5132F}" type="slidenum">
              <a:rPr b="0" lang="fr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Espace réservé du numéro de diapositiv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4C6D0C22-E6A2-4EA5-9EA2-CB432315D566}" type="slidenum">
              <a:rPr b="0" lang="fr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Espace réservé du numéro de diapositiv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25B765C2-1DDF-40D8-B3C0-8209F55F8C88}" type="slidenum">
              <a:rPr b="0" lang="fr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Espace réservé du numéro de diapositiv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100D3E96-934B-4F53-AD60-E6C6BF7C026F}" type="slidenum">
              <a:rPr b="0" lang="fr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Espace réservé du numéro de diapositiv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B3409CC1-895E-4545-8244-51E5A02BBB38}" type="slidenum">
              <a:rPr b="0" lang="fr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3BA8-7CC9-40EA-9D79-D8F9269E2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844704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6120" y="4934160"/>
            <a:ext cx="844704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A11F-4D06-4948-BE97-8D9AFED9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6120" y="493416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4760" y="493416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EE34-10A8-49DA-84A9-470E9872F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72360" y="305280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8600" y="305280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6120" y="493416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72360" y="493416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8600" y="493416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231E-B2C4-40E3-9434-7A29CF96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D1D3-64C3-4D76-99D5-0F4E107CF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16120" y="3052800"/>
            <a:ext cx="8447040" cy="36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D2086-CCBB-4C29-A2CC-28AF7201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844704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518C-B40F-49F2-82F0-22D73A9E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E3EE-63AE-44B9-ACFC-CFE4916D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F510-9CE6-4F8A-B157-28817194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3280" y="38052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523C-106C-405C-BC82-234D913C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16120" y="493416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6593-8CC4-4393-96E5-E8991149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6120" y="3052800"/>
            <a:ext cx="8447040" cy="36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5B97-0F9C-437D-9A32-56A0E0B4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4760" y="493416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AD41-4F9B-47D9-A58A-3F805768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16120" y="4934160"/>
            <a:ext cx="844704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92FB-C489-40F6-9B89-3945C49F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844704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16120" y="4934160"/>
            <a:ext cx="844704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17BC-7D04-40C1-A591-B4D26C7C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16120" y="493416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44760" y="493416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DB48-9D38-4829-83C3-D0F919282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72360" y="305280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8600" y="305280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16120" y="493416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72360" y="493416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8600" y="493416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A870-6CF2-4522-BC38-33C86B417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10513-785E-4641-91E3-4DF49D0D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16120" y="3052800"/>
            <a:ext cx="8447040" cy="36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AD5C9-FCCB-4B7D-AB57-B83DE420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844704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F0B6E-6F1A-4775-BC76-77C0A107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C7DA1-B204-4FC5-AB0E-7439237B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BD6EF-0D6E-4EA1-AD94-C4562B27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844704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8AE0-5CA4-4DE8-8671-4AAE092E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03280" y="38052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7AA54-81E0-4389-9F24-D77843D4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16120" y="493416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9C3F1-1857-4C95-8B66-9FD36576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44760" y="493416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86A10-6EE7-4ED0-99F7-87CE7449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16120" y="4934160"/>
            <a:ext cx="844704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45DB3-3D76-44C8-86D8-926AC25E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844704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16120" y="4934160"/>
            <a:ext cx="844704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04F6A-ADE8-46EC-BF93-E1FDFC9E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16120" y="493416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44760" y="493416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E86B5-8D84-4922-8D58-A4A304A67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72360" y="305280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528600" y="305280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16120" y="493416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72360" y="493416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528600" y="493416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E276B-60B0-44CB-80A7-73F90B956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CDEDF-9EB3-4163-8CD8-858724035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16120" y="3052800"/>
            <a:ext cx="8447040" cy="36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D3C04-DBA2-40A3-93E0-343A1D10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844704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562C2-B69B-4694-8962-867BF009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9565-3144-40CB-A947-7A7FB8DE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5C8FC-1707-41F4-A652-54E3E4DF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EAC72-5170-46CF-BCD7-AF183153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503280" y="38052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7A240-4BA7-4B2E-90BC-51C31134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816120" y="493416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07730-F988-4E5B-8C9A-5A1E8786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144760" y="493416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7A831-D2A7-407E-924A-EF33C149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16120" y="4934160"/>
            <a:ext cx="844704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D0D53-AAFC-4CDE-84E9-151A4538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844704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816120" y="4934160"/>
            <a:ext cx="844704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284A2-7065-43F0-9516-A1140386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16120" y="493416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144760" y="493416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6CDD0-AFDA-47B2-B498-AA6164EC3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72360" y="305280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528600" y="305280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816120" y="493416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672360" y="493416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528600" y="493416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F663A-80BD-43CD-B5FE-A835D0528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D42BA-CC51-4841-9396-CE540A7C8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7E7C-53FC-4E9D-91C2-2A94E85C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16120" y="3052800"/>
            <a:ext cx="8447040" cy="36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F97CB-840E-4A8C-AE52-511AF058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844704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CD5E2-A63D-487D-90AB-0F06950F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C9868-BAC5-4C06-8BC7-E38FA6B1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A7AC5-2B2C-4EE7-97E6-E75BDC34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503280" y="38052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E8961-4508-4305-8CDD-9BCF4D64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16120" y="493416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C6B4F-5C3E-4F62-8664-D627DBF9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144760" y="493416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EF41A-0EFF-4EA9-B73A-7EDBA016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16120" y="4934160"/>
            <a:ext cx="844704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00352-A00D-4711-9E6D-C7E8D614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844704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16120" y="4934160"/>
            <a:ext cx="844704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23868-EB11-433B-A9E7-9B2FAB3C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16120" y="493416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144760" y="493416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BE64C-ACF9-4192-93DA-45553CCBA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8052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BA7F-8CAF-4413-B28A-C97762D6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672360" y="305280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528600" y="305280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16120" y="493416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672360" y="493416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528600" y="493416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D35D7-B5BC-4EE2-AE22-E5B2D98F4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92413-54D4-4001-A0C4-E304B4D6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816120" y="3052800"/>
            <a:ext cx="8447040" cy="36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24345-4A43-4C54-9469-0766BD26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844704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7B44B-ED6F-471E-A4CE-DC5B75D7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4E049-6FF9-40DD-8C2D-4191298F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52F60-C6AB-452D-A3DE-85537B8A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503280" y="38052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FEC46-9E78-469A-B1A5-5ECB5049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16120" y="493416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AB6D5-92F7-4D97-8692-44224C28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144760" y="493416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2206D-5938-4CB4-8F52-2488C027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16120" y="4934160"/>
            <a:ext cx="844704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1C7EE-A529-4B13-9E23-0081BBA4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6120" y="493416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5558-84E9-4DA8-A9A5-4042F9A4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844704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816120" y="4934160"/>
            <a:ext cx="844704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4CC85-F3D4-4444-9728-B3A495D5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16120" y="493416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144760" y="493416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744FF-BB31-4362-8756-EB64CCFB2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672360" y="305280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528600" y="305280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816120" y="493416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672360" y="493416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528600" y="493416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722F1-E491-446A-9615-C6BFEBC5E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4760" y="493416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0052-A457-4A8B-A498-F03422D3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6120" y="4934160"/>
            <a:ext cx="844704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8652-22F2-424F-89A8-4E63E876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6120" y="3052800"/>
            <a:ext cx="844704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82000"/>
          </a:bodyPr>
          <a:p>
            <a:pPr marL="309960" indent="-309960"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1" marL="619560" indent="-303120">
              <a:spcBef>
                <a:spcPts val="2200"/>
              </a:spcBef>
              <a:buClr>
                <a:srgbClr val="95b3d7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2" marL="934560" indent="-314640"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3" marL="1239120" indent="-303120">
              <a:spcBef>
                <a:spcPts val="2200"/>
              </a:spcBef>
              <a:buClr>
                <a:srgbClr val="95b3d7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4" marL="1554120" indent="-314640"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5" marL="1554120" indent="-314640">
              <a:spcBef>
                <a:spcPts val="2200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6" marL="1554120" indent="-314640">
              <a:spcBef>
                <a:spcPts val="2200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38316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46600" y="7007040"/>
            <a:ext cx="58752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1" lang="fr-CH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2D6D7052-0CD3-45A2-A2B1-871FA4E06209}" type="slidenum">
              <a:rPr b="1" lang="fr-CH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7"/>
          <p:cNvSpPr/>
          <p:nvPr/>
        </p:nvSpPr>
        <p:spPr>
          <a:xfrm>
            <a:off x="9232560" y="6399360"/>
            <a:ext cx="227880" cy="6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FR" sz="4900" spc="-1" strike="noStrike">
                <a:solidFill>
                  <a:srgbClr val="4f81bd"/>
                </a:solidFill>
                <a:latin typeface="Wingdings"/>
                <a:ea typeface="Wingdings"/>
              </a:rPr>
              <a:t>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16120" y="3052800"/>
            <a:ext cx="844704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82000"/>
          </a:bodyPr>
          <a:p>
            <a:pPr marL="309960" indent="-309960"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1" marL="619560" indent="-303120">
              <a:spcBef>
                <a:spcPts val="2200"/>
              </a:spcBef>
              <a:buClr>
                <a:srgbClr val="95b3d7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2" marL="934560" indent="-314640"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3" marL="1239120" indent="-303120">
              <a:spcBef>
                <a:spcPts val="2200"/>
              </a:spcBef>
              <a:buClr>
                <a:srgbClr val="95b3d7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4" marL="1554120" indent="-314640"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5" marL="1554120" indent="-314640">
              <a:spcBef>
                <a:spcPts val="2200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6" marL="1554120" indent="-314640">
              <a:spcBef>
                <a:spcPts val="2200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1" lang="en-US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BE430477-CCCA-4427-ADE9-6DD933F85D49}" type="datetime3">
              <a:rPr b="1" lang="en-US" sz="1200" spc="-1" strike="noStrike">
                <a:solidFill>
                  <a:srgbClr val="7f7f7f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638316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4746600" y="7007040"/>
            <a:ext cx="58752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1" lang="en-US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DAFCAA30-CCD5-4D03-A9A5-AD922C1CF167}" type="slidenum">
              <a:rPr b="1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7"/>
          <p:cNvSpPr/>
          <p:nvPr/>
        </p:nvSpPr>
        <p:spPr>
          <a:xfrm>
            <a:off x="9232560" y="6399360"/>
            <a:ext cx="227880" cy="6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FR" sz="4900" spc="-1" strike="noStrike">
                <a:solidFill>
                  <a:srgbClr val="4f81bd"/>
                </a:solidFill>
                <a:latin typeface="Wingdings"/>
                <a:ea typeface="Wingdings"/>
              </a:rPr>
              <a:t>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16120" y="3052800"/>
            <a:ext cx="844704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82000"/>
          </a:bodyPr>
          <a:p>
            <a:pPr marL="309960" indent="-309960"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1" marL="619560" indent="-303120">
              <a:spcBef>
                <a:spcPts val="2200"/>
              </a:spcBef>
              <a:buClr>
                <a:srgbClr val="95b3d7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2" marL="934560" indent="-314640"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3" marL="1239120" indent="-303120">
              <a:spcBef>
                <a:spcPts val="2200"/>
              </a:spcBef>
              <a:buClr>
                <a:srgbClr val="95b3d7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4" marL="1554120" indent="-314640"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5" marL="1554120" indent="-314640">
              <a:spcBef>
                <a:spcPts val="2200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6" marL="1554120" indent="-314640">
              <a:spcBef>
                <a:spcPts val="2200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B5E134A6-1F8A-48D1-88FD-E1613B9F8157}" type="datetime3">
              <a:rPr b="1" lang="en-US" sz="1200" spc="-1" strike="noStrike">
                <a:solidFill>
                  <a:srgbClr val="ffffff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7980120" y="7007040"/>
            <a:ext cx="159372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4746600" y="7007040"/>
            <a:ext cx="58752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64AA6F8D-51DD-4588-882F-8A4ECFD274C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16120" y="3052800"/>
            <a:ext cx="844704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82000"/>
          </a:bodyPr>
          <a:p>
            <a:pPr marL="309960" indent="-309960"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1" marL="619560" indent="-303120">
              <a:spcBef>
                <a:spcPts val="2200"/>
              </a:spcBef>
              <a:buClr>
                <a:srgbClr val="95b3d7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2" marL="934560" indent="-314640"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3" marL="1239120" indent="-303120">
              <a:spcBef>
                <a:spcPts val="2200"/>
              </a:spcBef>
              <a:buClr>
                <a:srgbClr val="95b3d7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4" marL="1554120" indent="-314640"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5" marL="1554120" indent="-314640">
              <a:spcBef>
                <a:spcPts val="2200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6" marL="1554120" indent="-314640">
              <a:spcBef>
                <a:spcPts val="2200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638316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4746600" y="7007040"/>
            <a:ext cx="58752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1" lang="en-US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8C0492DF-ADCA-4EC8-8FDA-306BED8F227A}" type="slidenum">
              <a:rPr b="1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816120" y="3052800"/>
            <a:ext cx="844704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82000"/>
          </a:bodyPr>
          <a:p>
            <a:pPr marL="309960" indent="-309960"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1" marL="619560" indent="-303120">
              <a:spcBef>
                <a:spcPts val="2200"/>
              </a:spcBef>
              <a:buClr>
                <a:srgbClr val="95b3d7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2" marL="934560" indent="-314640"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3" marL="1239120" indent="-303120">
              <a:spcBef>
                <a:spcPts val="2200"/>
              </a:spcBef>
              <a:buClr>
                <a:srgbClr val="95b3d7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4" marL="1554120" indent="-314640"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5" marL="1554120" indent="-314640">
              <a:spcBef>
                <a:spcPts val="2200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6" marL="1554120" indent="-314640">
              <a:spcBef>
                <a:spcPts val="2200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638316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4746600" y="7007040"/>
            <a:ext cx="58752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1" lang="fr-CH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47993DD9-87AD-4619-B51A-1793A51A0C79}" type="slidenum">
              <a:rPr b="1" lang="fr-CH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16120" y="3052800"/>
            <a:ext cx="844704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82000"/>
          </a:bodyPr>
          <a:p>
            <a:pPr marL="309960" indent="-309960"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1" marL="619560" indent="-303120">
              <a:spcBef>
                <a:spcPts val="2200"/>
              </a:spcBef>
              <a:buClr>
                <a:srgbClr val="95b3d7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2" marL="934560" indent="-314640"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3" marL="1239120" indent="-303120">
              <a:spcBef>
                <a:spcPts val="2200"/>
              </a:spcBef>
              <a:buClr>
                <a:srgbClr val="95b3d7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4" marL="1554120" indent="-314640"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5" marL="1554120" indent="-314640">
              <a:spcBef>
                <a:spcPts val="2200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6" marL="1554120" indent="-314640">
              <a:spcBef>
                <a:spcPts val="2200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638316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4746600" y="7007040"/>
            <a:ext cx="58752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1" lang="fr-CH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535D4373-792C-4ABA-BCE8-7DC626D30883}" type="slidenum">
              <a:rPr b="1" lang="fr-CH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19280" y="466200"/>
            <a:ext cx="8534160" cy="111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300" spc="-1" strike="noStrike">
                <a:solidFill>
                  <a:srgbClr val="ffffff"/>
                </a:solidFill>
                <a:latin typeface="Arial"/>
                <a:ea typeface="Arial"/>
              </a:rPr>
              <a:t>Solving Biological Problems that require Math</a:t>
            </a:r>
            <a:br>
              <a:rPr sz="2900"/>
            </a:br>
            <a:r>
              <a:rPr b="1" lang="fr-CH" sz="2900" spc="-1" strike="noStrike">
                <a:solidFill>
                  <a:srgbClr val="ffffff"/>
                </a:solidFill>
                <a:latin typeface="Arial"/>
                <a:ea typeface="Arial"/>
              </a:rPr>
              <a:t>Gradient Formation for the Cell Size in Fission Yeast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44000" y="2339640"/>
            <a:ext cx="3635640" cy="4491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0" bIns="50400" anchor="t">
            <a:normAutofit/>
          </a:bodyPr>
          <a:p>
            <a:pPr algn="ctr">
              <a:lnSpc>
                <a:spcPct val="102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Mentor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algn="ctr">
              <a:lnSpc>
                <a:spcPct val="102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Sascha Dalessi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algn="ctr">
              <a:lnSpc>
                <a:spcPct val="102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Students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algn="ctr">
              <a:lnSpc>
                <a:spcPct val="102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Johan Merçay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algn="ctr">
              <a:lnSpc>
                <a:spcPct val="102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Fabien Delapierre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algn="ctr">
              <a:lnSpc>
                <a:spcPct val="102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Lucas Degrugillier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algn="ctr">
              <a:lnSpc>
                <a:spcPct val="102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3959280" y="2519280"/>
            <a:ext cx="5759280" cy="360036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4"/>
          <p:cNvSpPr/>
          <p:nvPr/>
        </p:nvSpPr>
        <p:spPr>
          <a:xfrm>
            <a:off x="3959280" y="6267600"/>
            <a:ext cx="575928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Olivier Hachet, DMF, UNI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719280" y="1692360"/>
            <a:ext cx="9070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Coordinated by </a:t>
            </a: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Sven Bergman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108000"/>
            <a:ext cx="10080720" cy="79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808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  <a:ea typeface="Arial"/>
              </a:rPr>
              <a:t>Un cas simple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02920" y="1767960"/>
            <a:ext cx="9070920" cy="10106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3040" bIns="50400" anchor="t">
            <a:normAutofit/>
          </a:bodyPr>
          <a:p>
            <a:pPr marL="430200" indent="-322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45000"/>
              <a:buFont typeface="Wingdings" charset="2"/>
              <a:buChar char="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À l'équilibre  :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30200" indent="-322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45000"/>
              <a:buFont typeface="Wingdings" charset="2"/>
              <a:buChar char="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Source en un point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30200" indent="-32220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→  </a:t>
            </a: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équation à résoudre :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30200" indent="-322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30200" indent="-32220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Equation différentiel ordinaire (ODE)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30200" indent="-322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45000"/>
              <a:buFont typeface="Wingdings" charset="2"/>
              <a:buChar char="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On résout l'équation juste après la source →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30200" indent="-32220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Equation différentielle homogène d'ordre deux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30200" indent="-32220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Solutions sous la forme : 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30200" indent="-322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30200" indent="-322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30200" indent="-322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30200" indent="-322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30200" indent="-322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30200" indent="-322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45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30200" indent="-322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30200" indent="-322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30200" indent="-322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30200" indent="-322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45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3"/>
              <p:cNvSpPr txBox="1"/>
              <p:nvPr/>
            </p:nvSpPr>
            <p:spPr>
              <a:xfrm>
                <a:off x="3168720" y="1763640"/>
                <a:ext cx="16462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5"/>
              <p:cNvSpPr txBox="1"/>
              <p:nvPr/>
            </p:nvSpPr>
            <p:spPr>
              <a:xfrm>
                <a:off x="7632720" y="5292720"/>
                <a:ext cx="10000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4824360" y="6372360"/>
                <a:ext cx="288612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e</m:t>
                        </m:r>
                      </m:sub>
                      <m:sup>
                        <m:r>
                          <m:t xml:space="preserve">x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D</m:t>
                                </m:r>
                              </m:den>
                            </m:f>
                          </m:e>
                        </m:rad>
                      </m:sup>
                    </m:sSubSu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e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D</m:t>
                                </m:r>
                              </m:den>
                            </m:f>
                          </m:e>
                        </m:rad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4"/>
              <p:cNvSpPr txBox="1"/>
              <p:nvPr/>
            </p:nvSpPr>
            <p:spPr>
              <a:xfrm>
                <a:off x="4535640" y="3059280"/>
                <a:ext cx="33192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D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α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250920"/>
            <a:ext cx="10080720" cy="576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808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  <a:ea typeface="Arial"/>
              </a:rPr>
              <a:t>Un cas simple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539640" y="2879640"/>
            <a:ext cx="5040360" cy="3359160"/>
          </a:xfrm>
          <a:prstGeom prst="rect">
            <a:avLst/>
          </a:prstGeom>
          <a:ln w="0">
            <a:noFill/>
          </a:ln>
        </p:spPr>
      </p:pic>
      <p:sp>
        <p:nvSpPr>
          <p:cNvPr id="299" name="Line 3"/>
          <p:cNvSpPr/>
          <p:nvPr/>
        </p:nvSpPr>
        <p:spPr>
          <a:xfrm flipH="1">
            <a:off x="753840" y="2879640"/>
            <a:ext cx="866520" cy="395280"/>
          </a:xfrm>
          <a:prstGeom prst="line">
            <a:avLst/>
          </a:prstGeom>
          <a:ln w="9360">
            <a:solidFill>
              <a:srgbClr val="dc2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4"/>
              <p:cNvSpPr txBox="1"/>
              <p:nvPr/>
            </p:nvSpPr>
            <p:spPr>
              <a:xfrm>
                <a:off x="1440000" y="2376360"/>
                <a:ext cx="27032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ère</m:t>
                        </m:r>
                      </m:sup>
                    </m:sSup>
                    <m:r>
                      <m:t xml:space="preserve">condition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J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1" name="Text Box 5"/>
          <p:cNvSpPr/>
          <p:nvPr/>
        </p:nvSpPr>
        <p:spPr>
          <a:xfrm>
            <a:off x="360360" y="1079640"/>
            <a:ext cx="9539280" cy="57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360360" y="1596960"/>
            <a:ext cx="93600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fr-CH" sz="2600" spc="-1" strike="noStrike">
                <a:solidFill>
                  <a:srgbClr val="000000"/>
                </a:solidFill>
                <a:latin typeface="Arial"/>
              </a:rPr>
              <a:t>Déterminer C</a:t>
            </a:r>
            <a:r>
              <a:rPr b="1" lang="fr-CH" sz="2600" spc="-1" strike="noStrike" baseline="-33000">
                <a:solidFill>
                  <a:srgbClr val="000000"/>
                </a:solidFill>
                <a:latin typeface="Arial"/>
              </a:rPr>
              <a:t>1</a:t>
            </a:r>
            <a:r>
              <a:rPr b="1" lang="fr-CH" sz="2600" spc="-1" strike="noStrike">
                <a:solidFill>
                  <a:srgbClr val="000000"/>
                </a:solidFill>
                <a:latin typeface="Arial"/>
              </a:rPr>
              <a:t> et C</a:t>
            </a:r>
            <a:r>
              <a:rPr b="1" lang="fr-CH" sz="2600" spc="-1" strike="noStrike" baseline="-33000">
                <a:solidFill>
                  <a:srgbClr val="000000"/>
                </a:solidFill>
                <a:latin typeface="Arial"/>
              </a:rPr>
              <a:t>2 </a:t>
            </a:r>
            <a:r>
              <a:rPr b="1" lang="fr-CH" sz="26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8"/>
              <p:cNvSpPr txBox="1"/>
              <p:nvPr/>
            </p:nvSpPr>
            <p:spPr>
              <a:xfrm>
                <a:off x="708120" y="6480000"/>
                <a:ext cx="8659800" cy="8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ous</m:t>
                    </m:r>
                    <m:r>
                      <m:t xml:space="preserve"> </m:t>
                    </m:r>
                    <m:r>
                      <m:t xml:space="preserve">obtenons</m:t>
                    </m:r>
                    <m:r>
                      <m:t xml:space="preserve"> </m:t>
                    </m:r>
                    <m:r>
                      <m:t xml:space="preserve">ainsi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Ae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avec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αλ</m:t>
                        </m:r>
                      </m:den>
                    </m:f>
                    <m:r>
                      <m:t xml:space="preserve"> </m:t>
                    </m:r>
                    <m:r>
                      <m:t xml:space="preserve">et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α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04" name="Line 9"/>
          <p:cNvSpPr/>
          <p:nvPr/>
        </p:nvSpPr>
        <p:spPr>
          <a:xfrm>
            <a:off x="4140360" y="5219640"/>
            <a:ext cx="900000" cy="720720"/>
          </a:xfrm>
          <a:prstGeom prst="line">
            <a:avLst/>
          </a:prstGeom>
          <a:ln w="9360">
            <a:solidFill>
              <a:srgbClr val="dc2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7"/>
              <p:cNvSpPr txBox="1"/>
              <p:nvPr/>
            </p:nvSpPr>
            <p:spPr>
              <a:xfrm>
                <a:off x="2952720" y="4788000"/>
                <a:ext cx="29131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ème</m:t>
                        </m:r>
                      </m:sup>
                    </m:sSup>
                    <m:r>
                      <m:t xml:space="preserve">condition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limLow>
                      <m:e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lim>
                        <m:func>
                          <m:fName>
                            <m:limLow>
                              <m:e>
                                <m:r>
                                  <m:t xml:space="preserve">lim</m:t>
                                </m:r>
                              </m:e>
                              <m:lim/>
                            </m:limLow>
                          </m:fName>
                          <m:e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 </m:t>
                            </m:r>
                            <m:r>
                              <m:t xml:space="preserve">∞</m:t>
                            </m:r>
                          </m:e>
                        </m:func>
                      </m:lim>
                    </m:limLow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1023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808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  <a:ea typeface="Arial"/>
              </a:rPr>
              <a:t>Un cas simple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02920" y="1767960"/>
            <a:ext cx="9070920" cy="537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3040" bIns="50400" anchor="t">
            <a:normAutofit/>
          </a:bodyPr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1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Résultats obtenus :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Source dans notre problème ??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252360" y="5543640"/>
            <a:ext cx="964728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848880"/>
                <a:tab algn="l" pos="10296360"/>
                <a:tab algn="l" pos="107442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Profils réels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                               Profil simulé (A=1,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=18)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360360" y="2879640"/>
            <a:ext cx="4319640" cy="2556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"/>
          <p:cNvPicPr/>
          <p:nvPr/>
        </p:nvPicPr>
        <p:blipFill>
          <a:blip r:embed="rId2"/>
          <a:stretch/>
        </p:blipFill>
        <p:spPr>
          <a:xfrm>
            <a:off x="5040360" y="2862360"/>
            <a:ext cx="4319640" cy="257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107640"/>
            <a:ext cx="100807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808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  <a:ea typeface="Arial"/>
              </a:rPr>
              <a:t>Matlab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02920" y="1767960"/>
            <a:ext cx="9070920" cy="5658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3040" bIns="50400" anchor="t">
            <a:normAutofit/>
          </a:bodyPr>
          <a:p>
            <a:pPr marL="10620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Cas plus compliqués → utilisation de matlab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Fonction pdepe :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45000"/>
              <a:buFont typeface="Wingdings" charset="2"/>
              <a:buChar char="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Conditions initiales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45000"/>
              <a:buFont typeface="Wingdings" charset="2"/>
              <a:buChar char="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Conditions au bords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résout les équations sous la forme :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3"/>
              <p:cNvSpPr txBox="1"/>
              <p:nvPr/>
            </p:nvSpPr>
            <p:spPr>
              <a:xfrm>
                <a:off x="900000" y="5543640"/>
                <a:ext cx="73710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08360" y="107640"/>
            <a:ext cx="4533840" cy="95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808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  <a:ea typeface="Arial"/>
              </a:rPr>
              <a:t>Matlab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3040" bIns="50400" anchor="t">
            <a:normAutofit/>
          </a:bodyPr>
          <a:p>
            <a:pPr marL="449280" indent="-34308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Un cas plus compliqué :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49280" indent="-34308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49280" indent="-34308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49280" indent="-34308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45000"/>
              <a:buFont typeface="Wingdings" charset="2"/>
              <a:buChar char="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Source : distribution gaussienne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49280" indent="-34308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45000"/>
              <a:buFont typeface="Wingdings" charset="2"/>
              <a:buChar char="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Quatre paramètres : α, D, σ et S0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49280" indent="-34308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45000"/>
              <a:buFont typeface="Wingdings" charset="2"/>
              <a:buChar char="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Sigma doit être faible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49280" indent="-34308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45000"/>
              <a:buFont typeface="Wingdings" charset="2"/>
              <a:buChar char="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Toujours à l'équilibre : Vdiffusion &gt; Vcroissance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49280" indent="-34308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3"/>
              <p:cNvSpPr txBox="1"/>
              <p:nvPr/>
            </p:nvSpPr>
            <p:spPr>
              <a:xfrm>
                <a:off x="2422440" y="2457360"/>
                <a:ext cx="650412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D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α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178920"/>
            <a:ext cx="10080720" cy="808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808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  <a:ea typeface="Arial"/>
              </a:rPr>
              <a:t>Matlab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3040" bIns="50400" anchor="t">
            <a:normAutofit/>
          </a:bodyPr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  <a:ea typeface="Arial"/>
              </a:rPr>
              <a:t>Résultats obtenus 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1"/>
          <a:stretch/>
        </p:blipFill>
        <p:spPr>
          <a:xfrm>
            <a:off x="0" y="2556000"/>
            <a:ext cx="5689440" cy="426708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4"/>
          <p:cNvSpPr/>
          <p:nvPr/>
        </p:nvSpPr>
        <p:spPr>
          <a:xfrm>
            <a:off x="339840" y="6740640"/>
            <a:ext cx="575928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profil simulé (S0 = 1,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  <a:ea typeface="Arial"/>
              </a:rPr>
              <a:t>σ = 0.001, α = 1*S0, D = 400*S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5580000" y="2879640"/>
            <a:ext cx="4319640" cy="30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8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fr-CH" sz="2600" spc="-1" strike="noStrike" u="sng">
                <a:solidFill>
                  <a:srgbClr val="000000"/>
                </a:solidFill>
                <a:uFillTx/>
                <a:latin typeface="Arial"/>
              </a:rPr>
              <a:t>Remarques 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8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Modèle éloigné de la réalité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8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fr-CH" sz="2600" spc="-1" strike="noStrike">
                <a:solidFill>
                  <a:srgbClr val="ff0000"/>
                </a:solidFill>
                <a:latin typeface="Arial"/>
              </a:rPr>
              <a:t>''Cycle de phosphorylation''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95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808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  <a:ea typeface="Arial"/>
              </a:rPr>
              <a:t>Le cas compliqué 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03280" y="1908000"/>
            <a:ext cx="9577440" cy="540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3040" bIns="50400" anchor="t">
            <a:normAutofit/>
          </a:bodyPr>
          <a:p>
            <a:pPr marL="10620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6 états de phosphorylation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trop de paramètre à fixer manuellement, version simplifiée :  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2 états de phosphorylation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45000"/>
              <a:buFont typeface="Wingdings" charset="2"/>
              <a:buChar char="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Même constante de diffusion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45000"/>
              <a:buFont typeface="Wingdings" charset="2"/>
              <a:buChar char="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Taux de phosphorylation κ constant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équations à résoudre :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3"/>
              <p:cNvSpPr txBox="1"/>
              <p:nvPr/>
            </p:nvSpPr>
            <p:spPr>
              <a:xfrm>
                <a:off x="1511280" y="6012000"/>
                <a:ext cx="406260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D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'</m:t>
                    </m:r>
                    <m:r>
                      <m:t xml:space="preserve">'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κ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4"/>
              <p:cNvSpPr txBox="1"/>
              <p:nvPr/>
            </p:nvSpPr>
            <p:spPr>
              <a:xfrm>
                <a:off x="1511280" y="6659640"/>
                <a:ext cx="433224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D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'</m:t>
                    </m:r>
                    <m:r>
                      <m:t xml:space="preserve">'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α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κ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25560"/>
            <a:ext cx="10080720" cy="1017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  <a:ea typeface="Arial"/>
              </a:rPr>
              <a:t>Résultats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327" name="Image 4" descr="plotk4.png"/>
          <p:cNvPicPr/>
          <p:nvPr/>
        </p:nvPicPr>
        <p:blipFill>
          <a:blip r:embed="rId1"/>
          <a:stretch/>
        </p:blipFill>
        <p:spPr>
          <a:xfrm>
            <a:off x="1224000" y="1619280"/>
            <a:ext cx="7200720" cy="540072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6"/>
          <p:cNvSpPr/>
          <p:nvPr/>
        </p:nvSpPr>
        <p:spPr>
          <a:xfrm>
            <a:off x="0" y="6948360"/>
            <a:ext cx="10080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fil simulé: S0= 1, Sigma= 0.01 , D=200*S0 , Kappa= 4*S0 , Alpha= 1*S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Image 3" descr="plotk4.png"/>
          <p:cNvPicPr/>
          <p:nvPr/>
        </p:nvPicPr>
        <p:blipFill>
          <a:blip r:embed="rId2"/>
          <a:stretch/>
        </p:blipFill>
        <p:spPr>
          <a:xfrm>
            <a:off x="0" y="0"/>
            <a:ext cx="5040360" cy="3780000"/>
          </a:xfrm>
          <a:prstGeom prst="rect">
            <a:avLst/>
          </a:prstGeom>
          <a:ln w="0">
            <a:noFill/>
          </a:ln>
        </p:spPr>
      </p:pic>
      <p:pic>
        <p:nvPicPr>
          <p:cNvPr id="330" name="Image 4" descr="plotk43.png"/>
          <p:cNvPicPr/>
          <p:nvPr/>
        </p:nvPicPr>
        <p:blipFill>
          <a:blip r:embed="rId3"/>
          <a:stretch/>
        </p:blipFill>
        <p:spPr>
          <a:xfrm>
            <a:off x="4896000" y="0"/>
            <a:ext cx="5040000" cy="3780000"/>
          </a:xfrm>
          <a:prstGeom prst="rect">
            <a:avLst/>
          </a:prstGeom>
          <a:ln w="0">
            <a:noFill/>
          </a:ln>
        </p:spPr>
      </p:pic>
      <p:pic>
        <p:nvPicPr>
          <p:cNvPr id="331" name="Image 5" descr="kapa2.png"/>
          <p:cNvPicPr/>
          <p:nvPr/>
        </p:nvPicPr>
        <p:blipFill>
          <a:blip r:embed="rId4"/>
          <a:stretch/>
        </p:blipFill>
        <p:spPr>
          <a:xfrm>
            <a:off x="19080" y="3765600"/>
            <a:ext cx="5040360" cy="3779640"/>
          </a:xfrm>
          <a:prstGeom prst="rect">
            <a:avLst/>
          </a:prstGeom>
          <a:ln w="0">
            <a:noFill/>
          </a:ln>
        </p:spPr>
      </p:pic>
      <p:sp>
        <p:nvSpPr>
          <p:cNvPr id="332" name="ZoneTexte 15"/>
          <p:cNvSpPr/>
          <p:nvPr/>
        </p:nvSpPr>
        <p:spPr>
          <a:xfrm>
            <a:off x="5688000" y="5003640"/>
            <a:ext cx="36003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Bleu = M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Rouge = M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Noir = M1 + M0 = Mto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Cadre 16" descr=""/>
          <p:cNvPicPr/>
          <p:nvPr/>
        </p:nvPicPr>
        <p:blipFill>
          <a:blip r:embed="rId5"/>
          <a:stretch/>
        </p:blipFill>
        <p:spPr>
          <a:xfrm>
            <a:off x="5095800" y="4522680"/>
            <a:ext cx="4627800" cy="2116080"/>
          </a:xfrm>
          <a:prstGeom prst="rect">
            <a:avLst/>
          </a:prstGeom>
          <a:ln w="0">
            <a:noFill/>
          </a:ln>
        </p:spPr>
      </p:pic>
      <p:sp>
        <p:nvSpPr>
          <p:cNvPr id="334" name="ZoneTexte 17"/>
          <p:cNvSpPr/>
          <p:nvPr/>
        </p:nvSpPr>
        <p:spPr>
          <a:xfrm>
            <a:off x="5256360" y="6875640"/>
            <a:ext cx="43210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CH" sz="2600" spc="-1" strike="noStrike">
                <a:solidFill>
                  <a:srgbClr val="ff0000"/>
                </a:solidFill>
                <a:latin typeface="Arial"/>
                <a:ea typeface="Arial"/>
              </a:rPr>
              <a:t>→</a:t>
            </a:r>
            <a:r>
              <a:rPr b="0" lang="fr-FR" sz="2600" spc="-1" strike="noStrike">
                <a:solidFill>
                  <a:srgbClr val="ff0000"/>
                </a:solidFill>
                <a:latin typeface="Arial"/>
              </a:rPr>
              <a:t>Mtot ne varie pas !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1008072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sto MT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816120" y="3052800"/>
            <a:ext cx="844704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2200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sto MT"/>
              </a:rPr>
              <a:t>Extraction des données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marL="378000" indent="-378000">
              <a:spcBef>
                <a:spcPts val="22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marL="378000" indent="-378000">
              <a:spcBef>
                <a:spcPts val="2200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sto MT"/>
              </a:rPr>
              <a:t>Test et amélioration du Plugin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marL="378000" indent="-378000">
              <a:spcBef>
                <a:spcPts val="2200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marL="378000" indent="-378000">
              <a:spcBef>
                <a:spcPts val="2200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sto MT"/>
              </a:rPr>
              <a:t>Apprentissage modélisation mathématique et résolution 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marL="378000" indent="-378000">
              <a:spcBef>
                <a:spcPts val="2200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marL="378000" indent="-378000">
              <a:spcBef>
                <a:spcPts val="22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marL="378000" indent="-378000">
              <a:spcBef>
                <a:spcPts val="2200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"/>
          <p:cNvPicPr/>
          <p:nvPr/>
        </p:nvPicPr>
        <p:blipFill>
          <a:blip r:embed="rId1"/>
          <a:srcRect l="0" t="3977" r="0" b="3977"/>
          <a:stretch/>
        </p:blipFill>
        <p:spPr>
          <a:xfrm>
            <a:off x="25560" y="1908000"/>
            <a:ext cx="5233680" cy="22323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5688000" y="3995640"/>
            <a:ext cx="4363920" cy="316872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5111640" y="1692360"/>
            <a:ext cx="511344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000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Contrôle de l’entrée en mitose de la lev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Pom1 forme un gradient de concentration sur la membr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216000" y="4788000"/>
            <a:ext cx="50385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000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Inhibition de Cdr2 par Pom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Autophosphorylations induisent un détachement de la proté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Etablissement d’un cy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ZoneTexte 7"/>
          <p:cNvSpPr/>
          <p:nvPr/>
        </p:nvSpPr>
        <p:spPr>
          <a:xfrm>
            <a:off x="0" y="250920"/>
            <a:ext cx="100807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  <a:ea typeface="Arial"/>
              </a:rPr>
              <a:t>Contex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ZoneTexte 9"/>
          <p:cNvSpPr/>
          <p:nvPr/>
        </p:nvSpPr>
        <p:spPr>
          <a:xfrm>
            <a:off x="5977080" y="7164360"/>
            <a:ext cx="38876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G Matin &amp; M Berthelot-Gorsjean </a:t>
            </a:r>
            <a:r>
              <a:rPr b="0" i="1" lang="fr-CH" sz="1200" spc="-1" strike="noStrike">
                <a:solidFill>
                  <a:srgbClr val="000000"/>
                </a:solidFill>
                <a:latin typeface="Arial"/>
              </a:rPr>
              <a:t>Nature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 459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ZoneTexte 10"/>
          <p:cNvSpPr/>
          <p:nvPr/>
        </p:nvSpPr>
        <p:spPr>
          <a:xfrm>
            <a:off x="216000" y="4140360"/>
            <a:ext cx="51116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Olivier Hachet &amp; al. </a:t>
            </a:r>
            <a:r>
              <a:rPr b="0" i="1" lang="fr-CH" sz="1200" spc="-1" strike="noStrike">
                <a:solidFill>
                  <a:srgbClr val="000000"/>
                </a:solidFill>
                <a:latin typeface="Arial"/>
              </a:rPr>
              <a:t>Cell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 145 (20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719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808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  <a:ea typeface="Arial"/>
              </a:rPr>
              <a:t>Perspective: une réalité très complexe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3040" bIns="504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Constantes de phosphorylation et diffusion égales ?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31640" indent="-32364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Mécanismes de diffusion différents au deux extrémités?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720720" y="3419640"/>
            <a:ext cx="5040360" cy="309240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4"/>
          <p:cNvSpPr/>
          <p:nvPr/>
        </p:nvSpPr>
        <p:spPr>
          <a:xfrm>
            <a:off x="5940360" y="4500720"/>
            <a:ext cx="3240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S0 et décroissance fa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5"/>
          <p:cNvSpPr/>
          <p:nvPr/>
        </p:nvSpPr>
        <p:spPr>
          <a:xfrm flipH="1">
            <a:off x="2338560" y="3419640"/>
            <a:ext cx="1263600" cy="179280"/>
          </a:xfrm>
          <a:prstGeom prst="line">
            <a:avLst/>
          </a:prstGeom>
          <a:ln w="9360">
            <a:solidFill>
              <a:srgbClr val="dc2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3600360" y="3240000"/>
            <a:ext cx="28796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S0 et décroissance élev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7"/>
          <p:cNvSpPr/>
          <p:nvPr/>
        </p:nvSpPr>
        <p:spPr>
          <a:xfrm flipH="1">
            <a:off x="4677840" y="4680000"/>
            <a:ext cx="1263960" cy="179280"/>
          </a:xfrm>
          <a:prstGeom prst="line">
            <a:avLst/>
          </a:prstGeom>
          <a:ln w="9360">
            <a:solidFill>
              <a:srgbClr val="dc2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8"/>
          <p:cNvSpPr/>
          <p:nvPr/>
        </p:nvSpPr>
        <p:spPr>
          <a:xfrm>
            <a:off x="539640" y="6740640"/>
            <a:ext cx="93600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  <a:ea typeface="Arial"/>
              </a:rPr>
              <a:t>Système de buffering : n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otre modèle ne permet pas d'expliquer cela !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33480"/>
            <a:ext cx="10080720" cy="86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  <a:ea typeface="Arial"/>
              </a:rPr>
              <a:t>Feedback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791640" y="1619280"/>
            <a:ext cx="8447400" cy="518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Points Forts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Recherche actuelle, inconnu, pratique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Utilisation de nouveaux outils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Difficultés 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Assimilation des langages utilisés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Wiki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75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  <a:ea typeface="Arial"/>
              </a:rPr>
              <a:t>Remerciements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31280" y="1618920"/>
            <a:ext cx="936180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Arial"/>
              </a:rPr>
              <a:t>Nous voulons adresser nos remerciements pour l’attention, l’aide et les conseils prodigués à: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Arial"/>
                <a:ea typeface="Arial"/>
              </a:rPr>
              <a:t>Sascha Dalessi</a:t>
            </a:r>
            <a:endParaRPr b="0" lang="en-US" sz="3300" spc="-1" strike="noStrike">
              <a:solidFill>
                <a:srgbClr val="595959"/>
              </a:solidFill>
              <a:latin typeface="Calisto MT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Arial"/>
                <a:ea typeface="Arial"/>
              </a:rPr>
              <a:t>Micha Hersch</a:t>
            </a:r>
            <a:endParaRPr b="0" lang="en-US" sz="3300" spc="-1" strike="noStrike">
              <a:solidFill>
                <a:srgbClr val="595959"/>
              </a:solidFill>
              <a:latin typeface="Calisto MT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Arial"/>
                <a:ea typeface="Arial"/>
              </a:rPr>
              <a:t>Olivier Hachet</a:t>
            </a:r>
            <a:endParaRPr b="0" lang="en-US" sz="3300" spc="-1" strike="noStrike">
              <a:solidFill>
                <a:srgbClr val="595959"/>
              </a:solidFill>
              <a:latin typeface="Calisto MT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Arial"/>
                <a:ea typeface="Arial"/>
              </a:rPr>
              <a:t>Sven Bergmann</a:t>
            </a:r>
            <a:endParaRPr b="0" lang="en-US" sz="3300" spc="-1" strike="noStrike">
              <a:solidFill>
                <a:srgbClr val="595959"/>
              </a:solidFill>
              <a:latin typeface="Calisto MT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3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108000"/>
            <a:ext cx="10080720" cy="79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808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  <a:ea typeface="Arial"/>
              </a:rPr>
              <a:t>Buts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502920" y="25542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0200" indent="-322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45000"/>
              <a:buFont typeface="Wingdings" charset="2"/>
              <a:buChar char="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Modélisation du gradient de diffusion Pom1 à l’aide d’équations différentielles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30200" indent="-32220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30200" indent="-322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45000"/>
              <a:buFont typeface="Wingdings" charset="2"/>
              <a:buChar char="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Utilisation d'outils informatiques et mathématiques (mathematica, matlab, imageJ)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920" y="3024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  <a:ea typeface="Arial"/>
              </a:rPr>
              <a:t>Méthode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76000" y="2195280"/>
            <a:ext cx="9070920" cy="498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514440" indent="-51444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Extraction de données ( quantification d’images )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514440" indent="-51444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Comparaison des profils main-plugin avec mathematica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514440" indent="-51444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Cas simple de diffusion avec mathematica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514440" indent="-51444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Équation de diffusion comprenant la source avec matlab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514440" indent="-51444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Modèle final avec deux états de phopsphorylation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1093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  <a:ea typeface="Arial"/>
              </a:rPr>
              <a:t>Validation Plugin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1"/>
          <a:srcRect l="0" t="7830" r="0" b="7830"/>
          <a:stretch/>
        </p:blipFill>
        <p:spPr>
          <a:xfrm>
            <a:off x="216000" y="1763640"/>
            <a:ext cx="9793080" cy="4176720"/>
          </a:xfrm>
          <a:prstGeom prst="rect">
            <a:avLst/>
          </a:prstGeom>
          <a:ln w="0">
            <a:noFill/>
          </a:ln>
        </p:spPr>
      </p:pic>
      <p:sp>
        <p:nvSpPr>
          <p:cNvPr id="273" name="ZoneTexte 8"/>
          <p:cNvSpPr/>
          <p:nvPr/>
        </p:nvSpPr>
        <p:spPr>
          <a:xfrm>
            <a:off x="0" y="6227640"/>
            <a:ext cx="10080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ellophane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  <a:ea typeface="Arial"/>
              </a:rPr>
              <a:t>Validation Plugin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275" name="Espace réservé du contenu 3" descr="Cello-2.PNG"/>
          <p:cNvPicPr/>
          <p:nvPr/>
        </p:nvPicPr>
        <p:blipFill>
          <a:blip r:embed="rId1"/>
          <a:srcRect l="0" t="6358" r="0" b="6358"/>
          <a:stretch/>
        </p:blipFill>
        <p:spPr>
          <a:xfrm>
            <a:off x="216000" y="1692360"/>
            <a:ext cx="9624960" cy="4103640"/>
          </a:xfrm>
          <a:prstGeom prst="rect">
            <a:avLst/>
          </a:prstGeom>
          <a:ln w="0">
            <a:noFill/>
          </a:ln>
        </p:spPr>
      </p:pic>
      <p:sp>
        <p:nvSpPr>
          <p:cNvPr id="276" name="ZoneTexte 4"/>
          <p:cNvSpPr/>
          <p:nvPr/>
        </p:nvSpPr>
        <p:spPr>
          <a:xfrm>
            <a:off x="0" y="6227640"/>
            <a:ext cx="10080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ellophane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  <a:ea typeface="Arial"/>
              </a:rPr>
              <a:t>Validation Plugin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278" name="Image 8" descr="Cello3.png"/>
          <p:cNvPicPr/>
          <p:nvPr/>
        </p:nvPicPr>
        <p:blipFill>
          <a:blip r:embed="rId1"/>
          <a:stretch/>
        </p:blipFill>
        <p:spPr>
          <a:xfrm>
            <a:off x="936720" y="1692360"/>
            <a:ext cx="8064360" cy="4948200"/>
          </a:xfrm>
          <a:prstGeom prst="rect">
            <a:avLst/>
          </a:prstGeom>
          <a:ln w="0">
            <a:noFill/>
          </a:ln>
        </p:spPr>
      </p:pic>
      <p:sp>
        <p:nvSpPr>
          <p:cNvPr id="279" name="ZoneTexte 9"/>
          <p:cNvSpPr/>
          <p:nvPr/>
        </p:nvSpPr>
        <p:spPr>
          <a:xfrm>
            <a:off x="0" y="6875640"/>
            <a:ext cx="10080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ellophane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12600"/>
            <a:ext cx="10080720" cy="88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808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  <a:ea typeface="Arial"/>
              </a:rPr>
              <a:t>Équation de diffusion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60000" y="1547640"/>
            <a:ext cx="9070920" cy="877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3040" bIns="50400" anchor="t">
            <a:normAutofit/>
          </a:bodyPr>
          <a:p>
            <a:pPr marL="10620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Comment décrire la formation du gradient ?    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45000"/>
              <a:buFont typeface="Wingdings" charset="2"/>
              <a:buChar char="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Diffusion pure :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Flux de molécules:  </a:t>
            </a: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45000"/>
              <a:buFont typeface="Wingdings" charset="2"/>
              <a:buChar char="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Dégradation des molécules: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45000"/>
              <a:buFont typeface="Wingdings" charset="2"/>
              <a:buChar char="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Source de production : 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équation de diffusion :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Équation différentielle partielle (PDE)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3"/>
              <p:cNvSpPr txBox="1"/>
              <p:nvPr/>
            </p:nvSpPr>
            <p:spPr>
              <a:xfrm>
                <a:off x="3960720" y="2895480"/>
                <a:ext cx="4753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D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première</m:t>
                    </m:r>
                    <m:r>
                      <m:t xml:space="preserve">loi</m:t>
                    </m:r>
                    <m:r>
                      <m:t xml:space="preserve">de</m:t>
                    </m:r>
                    <m:r>
                      <m:t xml:space="preserve">Fic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4"/>
              <p:cNvSpPr txBox="1"/>
              <p:nvPr/>
            </p:nvSpPr>
            <p:spPr>
              <a:xfrm>
                <a:off x="4535640" y="4356000"/>
                <a:ext cx="79200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5"/>
              <p:cNvSpPr txBox="1"/>
              <p:nvPr/>
            </p:nvSpPr>
            <p:spPr>
              <a:xfrm>
                <a:off x="5184720" y="3708360"/>
                <a:ext cx="12477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α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7"/>
              <p:cNvSpPr txBox="1"/>
              <p:nvPr/>
            </p:nvSpPr>
            <p:spPr>
              <a:xfrm>
                <a:off x="4535640" y="4859280"/>
                <a:ext cx="52354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J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car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si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J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8"/>
              <p:cNvSpPr txBox="1"/>
              <p:nvPr/>
            </p:nvSpPr>
            <p:spPr>
              <a:xfrm>
                <a:off x="6985080" y="1547640"/>
                <a:ext cx="161748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6"/>
              <p:cNvSpPr txBox="1"/>
              <p:nvPr/>
            </p:nvSpPr>
            <p:spPr>
              <a:xfrm>
                <a:off x="3240000" y="2195640"/>
                <a:ext cx="551664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J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si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J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alors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90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808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  <a:ea typeface="Arial"/>
              </a:rPr>
              <a:t>Équation de diffusion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1440000" y="2433600"/>
            <a:ext cx="7199280" cy="433404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"/>
          <p:cNvSpPr/>
          <p:nvPr/>
        </p:nvSpPr>
        <p:spPr>
          <a:xfrm>
            <a:off x="503280" y="125892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État d'équilibre (steady state) 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7:44:27Z</dcterms:created>
  <dc:creator/>
  <dc:description/>
  <dc:language>en-US</dc:language>
  <cp:lastModifiedBy>Johan Merçay</cp:lastModifiedBy>
  <dcterms:modified xsi:type="dcterms:W3CDTF">2012-05-31T19:49:51Z</dcterms:modified>
  <cp:revision>120</cp:revision>
  <dc:subject/>
  <dc:title>Solving Biological Problems that require Math Gradient Formation for the Cell Size in Fission Yeast  </dc:title>
</cp:coreProperties>
</file>